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52F-512B-475E-A013-97DB11F5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3E6-E1EF-4C00-97C8-AE967F8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51F-0776-49BC-84C5-1F788E60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AA2-CDBD-4848-A5AF-DEF8784D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93E-D802-4748-99A7-8348C9F6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E42-09C8-4967-9E79-72D3D97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B37-0C69-4F25-A058-614DABD2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7BE-0927-4A8E-9027-5AD8991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9DB-6CB9-48E4-9D33-CFBA5BE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EE5-ABEF-46ED-96F9-47EC925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B36-2493-4208-A411-3DBA1C3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2A9-5F8D-49F4-9CE8-07EFA3E4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EF2-C50B-4759-9052-DDFA078F7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uetooth.com/" TargetMode="External"/><Relationship Id="rId2" Type="http://schemas.openxmlformats.org/officeDocument/2006/relationships/hyperlink" Target="http://www.jini.org/" TargetMode="External"/><Relationship Id="rId3" Type="http://schemas.openxmlformats.org/officeDocument/2006/relationships/hyperlink" Target="http://www.javasoft.com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and Java™ Technolog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Wireless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Jini™ Technology i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 a nam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JavaBeans or Enterprise JavaBeans (EJ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a distributed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Key Fea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Jini™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 is the process of finding available lookup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ini discovery protocol is the means by which Jini-aware code finds Jini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ni™ Discovery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cast Reques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cast Announcemen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cast Discover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 refers to the things that you can do with the lookup services that are determined via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 is similar to a nam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track of all services that have joined a Jini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s from a nam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er set of semantics than provided by traditional nam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up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ing a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ing a Pro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a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 refers to the process of allocating resources to community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es are granted for a specified peri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es problems with network frag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event is a technique for members of the community to notify one another of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not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with events used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nd Remo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deliver events in the order that they were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delivery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nder knows that it can safely deliver the event to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ot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deliver events in the order that they were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may be un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delivery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nder does not know if it can safely deliver the event to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is a unit of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are used to complete complex units of work that may fail before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hase 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are not heavily used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™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Bluetooth™ wireles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Jini™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, Jini™ technology, and the Wireles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&amp;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vid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ni™ Key Concept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y and Lookup establish a Jini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ing helps Jini communities ensure stable, self healing, and resilient networks in spite of inevitable networ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help Jini communities asynchronously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help successfully complete complex operations and provide resolution for incomple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uetooth™ Complements Jini™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concepts found in Jini™ technology are found in Bluetooth™ wireless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™ technology is hardware what Jini™ technology is to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stand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and Jini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Bluetooth and Jini work we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specification complements software specification, and visa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ly accepted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™ Wireless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bluetooth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™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jini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java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™ and Jini™ technologies compliment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™ technology excels at short duration ad hoc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™ technology complements Bluetooth™ Wireles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 features of Jini™ technology can be found within the Bluetooth™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exuberance4m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wood@exuberance4m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luetooth™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Technolog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started by 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afte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y Viking 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arald Blat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lobal wireless technology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on”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frequency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ded fo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Wireless Technology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24 GHz globally available unlicensed ISM radio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range is 1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ommunication rate (721K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number of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devices / pic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voice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8001000" cy="452448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1524240"/>
                <a:gridCol w="1371600"/>
                <a:gridCol w="1523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 &amp;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.1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eless L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tooth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nection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red, narrow b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ead 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ead 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ead 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cal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 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mission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bp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bp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ical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ed De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ce Cha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bit physical 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bit M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bit M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bit M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Technology 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ior range compared with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nidirectional, not requiring line of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for ad hoc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voice and data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number of implementing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Technology Weak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communication rat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networking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number of network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nd complex spec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ver 1000 p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Wireless Technology Application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compu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iz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quou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or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 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Enter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vehicl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 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E-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ini™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™ Technology is designed for reliable 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05:12:17Z</dcterms:created>
  <dc:creator>Michael T. Portwood</dc:creator>
  <dc:description/>
  <dc:language>en-US</dc:language>
  <cp:lastModifiedBy>General</cp:lastModifiedBy>
  <dcterms:modified xsi:type="dcterms:W3CDTF">2015-11-02T11:35:51Z</dcterms:modified>
  <cp:revision>4</cp:revision>
  <dc:subject/>
  <dc:title>Bluetooth™ and Jini™ Technologies in the Wireless Environment</dc:title>
</cp:coreProperties>
</file>